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A9AE-C77D-4B24-BA96-8B262CD3B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A333-B3A9-454F-A43D-A9AC5EE1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BA2F-C88E-4F68-BE81-99E9AE62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2B9-253F-41EF-BABE-CC1924DB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5BF-03B9-46E4-BBE6-B8896703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7F45-29B5-449C-AD1C-9C1133BD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3878-0E5A-4BD5-A6AF-0C685DA4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657A-52F3-4595-AB75-D5ABED0C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BC45-E751-4F8D-A6BD-F58C3288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8675-B7B9-40E8-A83C-02B0F5FC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F29B-280B-4FB7-A07E-7C00D94E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CA00-1286-4817-A293-22D80053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0137-44DC-4364-BCE1-99A8F3F8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65D3-5074-4A57-8845-62A1CA64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9DC6-7C82-44C2-BC6C-D78E8705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8563-B990-4CE0-9A9A-59BE9E27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2A4A-B749-4D23-ABFD-8106E712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604B-1953-4DC3-A50A-BF3A3C1E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322-F2D8-4D16-A4F2-6C67BB4C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CD3-1272-4CBE-8067-066B2C93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370B-7CE1-41E2-B53D-CA457176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E179-852B-4ADE-B851-B020AFB4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64BF-56F0-4DC2-B516-37C7089B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5A12-ADAE-488F-9375-3832D386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906-7F35-4D10-B6CA-7608E2A4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C9A5-110C-4ABE-9A27-EDBEDC783A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94A1-DAD3-4EA5-8749-0A113CB42C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Symbol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com/imgres?imgurl=http://www.tvdance.com/william-hung/william-hung-american-idol-reject.jpg&amp;imgrefurl=http://www.tvdance.com/william-hung/&amp;h=162&amp;w=158&amp;sz=5&amp;hl=en&amp;start=6&amp;tbnid=Qq_kns9gSFciBM:&amp;tbnh=98&amp;tbnw=96&amp;prev=/images%3Fq%3DAmerican%2Bidol%26svnum%3D10%26hl%3Den%26lr%3D%26rls%3DGWYE,GWYE:2006-32,GWYE:en%26sa%3DN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ligion" TargetMode="External"/><Relationship Id="rId2" Type="http://schemas.openxmlformats.org/officeDocument/2006/relationships/hyperlink" Target="http://en.wikipedia.org/wiki/Rituals" TargetMode="External"/><Relationship Id="rId3" Type="http://schemas.openxmlformats.org/officeDocument/2006/relationships/hyperlink" Target="http://images.google.com/imgres?imgurl=http://waste2glass.com/images/right_side_picts/worship.jpg&amp;imgrefurl=http://waste2glass.com/worship.html&amp;h=202&amp;w=274&amp;sz=11&amp;hl=en&amp;start=1&amp;tbnid=GoNhRXGRKlojDM:&amp;tbnh=83&amp;tbnw=113&amp;prev=/images%3Fq%3Dworship%26svnum%3D10%26hl%3Den%26lr%3D%26rls%3DGWYE,GWYE:2006-32,GWYE:en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fashion-411.com/Trends/TrendsS06/JillStuartDress.jpg&amp;imgrefurl=http://www.fashion-411.com/&amp;h=480&amp;w=320&amp;sz=43&amp;hl=en&amp;start=10&amp;tbnid=zeTHEfacg8V8rM:&amp;tbnh=129&amp;tbnw=86&amp;prev=/images%3Fq%3Dfashion%26svnum%3D10%26hl%3Den%26lr%3D%26rls%3DGWYE,GWYE:2006-32,GWYE:en%26sa%3D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mdlsoft.co.uk/PrimaryPics1/hello.jpg&amp;imgrefurl=http://www.mdlsoft.co.uk/PrimaryPics.htm&amp;h=198&amp;w=213&amp;sz=4&amp;hl=en&amp;start=9&amp;tbnid=mgDjUhRF8lycSM:&amp;tbnh=99&amp;tbnw=106&amp;prev=/images%3Fq%3Dhello%26svnum%3D10%26hl%3Den%26lr%3D%26rls%3DGWYE,GWYE:2006-32,GWYE:en%26sa%3D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alue_%28personal_and_cultural%29" TargetMode="External"/><Relationship Id="rId2" Type="http://schemas.openxmlformats.org/officeDocument/2006/relationships/hyperlink" Target="http://en.wikipedia.org/wiki/Norm_%28sociology%29" TargetMode="External"/><Relationship Id="rId3" Type="http://schemas.openxmlformats.org/officeDocument/2006/relationships/hyperlink" Target="http://en.wikipedia.org/wiki/Institutions" TargetMode="External"/><Relationship Id="rId4" Type="http://schemas.openxmlformats.org/officeDocument/2006/relationships/hyperlink" Target="http://en.wikipedia.org/wiki/Artifact_%28archaeology%29" TargetMode="External"/><Relationship Id="rId5" Type="http://schemas.openxmlformats.org/officeDocument/2006/relationships/hyperlink" Target="http://images.google.com/imgres?imgurl=http://www3.cancer.gov/rrp/cdrp/images/shaking-hands.jpg&amp;imgrefurl=http://www3.cancer.gov/rrp/cdrp/&amp;h=253&amp;w=250&amp;sz=22&amp;tbnid=29cOG1RZXHPe5M:&amp;tbnh=106&amp;tbnw=104&amp;prev=/images%3Fq%3Dshaking%2Bhands&amp;start=3&amp;sa=X&amp;oi=images&amp;ct=image&amp;cd=3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library.thinkquest.org/J003358F/money_tree5.jpg&amp;imgrefurl=http://library.thinkquest.org/J003358F/trivia.html&amp;h=1762&amp;w=1949&amp;sz=1139&amp;hl=en&amp;start=8&amp;tbnid=kFA6lC91uco_eM:&amp;tbnh=136&amp;tbnw=150&amp;prev=/images%3Fq%3Dmoney%26svnum%3D10%26hl%3Den%26lr%3D%26rls%3DGWYE,GWYE:2006-32,GWYE:en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www.rapides.k12.la.us/VI/School%2520House.jpg&amp;imgrefurl=http://www.rapides.k12.la.us/VI/mspublisher.htm&amp;h=1119&amp;w=779&amp;sz=215&amp;hl=en&amp;start=5&amp;tbnid=CIMW4mm9Zm0SsM:&amp;tbnh=150&amp;tbnw=104&amp;prev=/images%3Fq%3Dschool%2Bhouse%26svnum%3D10%26hl%3Den%26lr%3D%26rls%3DGWYE,GWYE:2006-32,GWYE:en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www.cr.nps.gov/history/online_books/nace/images/fig5.jpg&amp;imgrefurl=http://www.cr.nps.gov/history/online_books/nace/adhi2a.htm&amp;h=341&amp;w=450&amp;sz=20&amp;hl=en&amp;start=3&amp;tbnid=S6nTmQs2Od-p2M:&amp;tbnh=96&amp;tbnw=127&amp;prev=/images%3Fq%3DLincoln%2Bmemorial%26svnum%3D10%26hl%3Den%26lr%3D%26rls%3DGWYE,GWYE:2006-32,GWYE:en%26sa%3DG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dwarereport.com/mt/archives/ipods.jpg&amp;imgrefurl=http://www.adwarereport.com/mt/archives/cat_news.html&amp;h=227&amp;w=406&amp;sz=24&amp;hl=en&amp;start=1&amp;tbnid=jFg3e8eru5LEGM:&amp;tbnh=69&amp;tbnw=124&amp;prev=/images%3Fq%3Dipods%26svnum%3D10%26hl%3Den%26lr%3D%26rls%3DGWYE,GWYE:2006-32,GWYE:en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ox.ac.uk/~newc2520/napoleon%2520dynamite.jpg&amp;imgrefurl=http://users.ox.ac.uk/~newc2520/dynamite.htm&amp;h=768&amp;w=1024&amp;sz=141&amp;hl=en&amp;start=7&amp;tbnid=tQ9_Tzn67A4ctM:&amp;tbnh=113&amp;tbnw=150&amp;prev=/images%3Fq%3Dnapoleon%2Bdynamite%26svnum%3D10%26hl%3Den%26lr%3D%26rls%3DGWYE,GWYE:2006-32,GWYE:en%26sa%3DX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ancerblog.com/media/2006/05/mcdonalds.jpg&amp;imgrefurl=http://www.thecancerblog.com/2006/05/10/fast-food-notion-from-a-fast-food-nation-icon/&amp;h=152&amp;w=171&amp;sz=10&amp;hl=en&amp;start=17&amp;tbnid=PUYmKQH8RNhdSM:&amp;tbnh=89&amp;tbnw=100&amp;prev=/images%3Fq%3Dfast%2Bfood%26svnum%3D10%26hl%3Den%26lr%3D%26rls%3DGWYE,GWYE:2006-32,GWYE:en%26sa%3DX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daphnes-restaurant.co.uk/support/6/images/conservatory1.jpg&amp;imgrefurl=http://www.daphnes-restaurant.co.uk/index.asp%3Farea%3D6&amp;h=280&amp;w=431&amp;sz=30&amp;hl=en&amp;start=16&amp;tbnid=yxfv-nd__iSutM:&amp;tbnh=82&amp;tbnw=126&amp;prev=/images%3Fq%3Drestaurant%26svnum%3D10%26hl%3Den%26lr%3D%26rls%3DGWYE,GWYE:2006-32,GWYE:en%26sa%3DX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lleytherepublican.com/uploaded_images/america-790957.jpg&amp;imgrefurl=http://shelleytherepublican.com/&amp;h=538&amp;w=800&amp;sz=56&amp;hl=en&amp;start=7&amp;tbnid=G2KoXZKrs8KRVM:&amp;tbnh=96&amp;tbnw=143&amp;prev=/images%3Fq%3DAmerica%2B%26svnum%3D10%26hl%3Den%26lr%3D%26rls%3DGWYE,GWYE:2006-32,GWYE:en%26sa%3D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calendars.com/images/014/1433/200500001001_hs.jpg&amp;imgrefurl=http://www.calendars2004.com/america/&amp;h=144&amp;w=145&amp;sz=6&amp;hl=en&amp;start=9&amp;tbnid=-SG89jd9s7nCEM:&amp;tbnh=94&amp;tbnw=95&amp;prev=/images%3Fq%3DAmerica%2Bmonuments%26svnum%3D10%26hl%3Den%26lr%3D%26rls%3DGWYE,GWYE:2006-32,GWYE:en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rom th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L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lo, -e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its root meaning "to cultivate“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symbolic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farming"/>
          <p:cNvPicPr/>
          <p:nvPr/>
        </p:nvPicPr>
        <p:blipFill>
          <a:blip r:embed="rId3"/>
          <a:stretch/>
        </p:blipFill>
        <p:spPr>
          <a:xfrm>
            <a:off x="914400" y="3733920"/>
            <a:ext cx="2004840" cy="28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illiam-hung-american-idol-rejec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267080"/>
            <a:ext cx="2389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-  has been called "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n entire society." As such, it includes codes of manners, dress, language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relig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ritu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norms of behaviors and systems of belie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wor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343400"/>
            <a:ext cx="3047760" cy="22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JillStuartDres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4038480"/>
            <a:ext cx="1778040" cy="26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ell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72400" y="152280"/>
            <a:ext cx="10098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val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n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institu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Artifact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http://www3.cancer.gov/rrp/cdrp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4343400"/>
            <a:ext cx="990720" cy="1009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ney_tree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3048120"/>
            <a:ext cx="142848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School%2520Hous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724280"/>
            <a:ext cx="9907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ig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5638680"/>
            <a:ext cx="1209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ipo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191120"/>
            <a:ext cx="30859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apoleon%2520dynam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419720"/>
            <a:ext cx="2952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mcdon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1055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onservatory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800600"/>
            <a:ext cx="31053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america-7909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952880"/>
            <a:ext cx="136224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200500001001_h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952880"/>
            <a:ext cx="1523880" cy="150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608"/>
          <p:cNvPicPr/>
          <p:nvPr/>
        </p:nvPicPr>
        <p:blipFill>
          <a:blip r:embed="rId5"/>
          <a:stretch/>
        </p:blipFill>
        <p:spPr>
          <a:xfrm>
            <a:off x="4343400" y="4648320"/>
            <a:ext cx="1479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bcul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4:34:37Z</dcterms:created>
  <dc:creator>Jason lundblad</dc:creator>
  <dc:description/>
  <dc:language>en-US</dc:language>
  <cp:lastModifiedBy>LEGION</cp:lastModifiedBy>
  <dcterms:modified xsi:type="dcterms:W3CDTF">2017-07-03T09:58:50Z</dcterms:modified>
  <cp:revision>8</cp:revision>
  <dc:subject/>
  <dc:title>What is culture? Standard 10.1</dc:title>
</cp:coreProperties>
</file>